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95480" y="6553080"/>
            <a:ext cx="50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-</a:t>
            </a:r>
            <a:fld id="{C8F48259-A232-495A-B132-85A4D266CC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171440"/>
            <a:ext cx="154620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Individual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Determinants of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Individual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Determinants of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Market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Government-Set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Las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15" action="ppaction://hlinksldjump"/>
          </p:cNvPr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>
            <a:hlinkClick r:id="rId16" action="ppaction://hlinksldjump"/>
          </p:cNvPr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8.xml"/><Relationship Id="rId18" Type="http://schemas.openxmlformats.org/officeDocument/2006/relationships/slide" Target="slide8.xml"/><Relationship Id="rId19" Type="http://schemas.openxmlformats.org/officeDocument/2006/relationships/slide" Target="slide10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3126632/student_view0/chapter3/origin_of_the_idea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ghered.mcgraw-hill.com/sites/0073126632/student_view0/chapter3/origin_of_the_idea.html" TargetMode="External"/><Relationship Id="rId4" Type="http://schemas.openxmlformats.org/officeDocument/2006/relationships/hyperlink" Target="http://highered.mcgraw-hill.com/sites/0073126632/student_view0/chapter3/origin_of_the_idea.html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ighered.mcgraw-hill.com/sites/0073126632/student_view0/chapter3/origin_of_the_idea.html" TargetMode="External"/><Relationship Id="rId7" Type="http://schemas.openxmlformats.org/officeDocument/2006/relationships/hyperlink" Target="http://highered.mcgraw-hill.com/sites/0073126632/student_view0/chapter3/origin_of_the_idea.html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highered.mcgraw-hill.com/sites/0073126632/student_view0/chapter3/origin_of_the_idea.html" TargetMode="External"/><Relationship Id="rId10" Type="http://schemas.openxmlformats.org/officeDocument/2006/relationships/hyperlink" Target="http://highered.mcgraw-hill.com/sites/0073126632/student_view0/chapter3/origin_of_the_idea.html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highered.mcgraw-hill.com/sites/0073126632/student_view0/chapter3/origin_of_the_idea.html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17880" y="304920"/>
            <a:ext cx="117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3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3556080"/>
            <a:ext cx="65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and, Supply, and Market Equilibr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960" r="1669" b="0"/>
          <a:stretch/>
        </p:blipFill>
        <p:spPr>
          <a:xfrm>
            <a:off x="5072040" y="328680"/>
            <a:ext cx="2997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52120" y="1444320"/>
            <a:ext cx="7086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Resource Price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Technology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Taxes and Subsidie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Prices of Other Good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Producer Expectation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Number of Seller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27800" y="82224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Determinants of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4038480" y="2033640"/>
            <a:ext cx="4746240" cy="3709800"/>
            <a:chOff x="4038480" y="2033640"/>
            <a:chExt cx="4746240" cy="3709800"/>
          </a:xfrm>
        </p:grpSpPr>
        <p:grpSp>
          <p:nvGrpSpPr>
            <p:cNvPr id="299" name=""/>
            <p:cNvGrpSpPr/>
            <p:nvPr/>
          </p:nvGrpSpPr>
          <p:grpSpPr>
            <a:xfrm>
              <a:off x="4046400" y="2048040"/>
              <a:ext cx="4725360" cy="3684600"/>
              <a:chOff x="4046400" y="2048040"/>
              <a:chExt cx="4725360" cy="36846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4046400" y="2048040"/>
                <a:ext cx="4725360" cy="3060360"/>
                <a:chOff x="4046400" y="2048040"/>
                <a:chExt cx="4725360" cy="30603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063320" y="2048040"/>
                  <a:ext cx="47084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060080" y="26463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056480" y="32619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053240" y="38772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049640" y="44928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046400" y="51084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632840" y="2049480"/>
                <a:ext cx="4128480" cy="3683160"/>
                <a:chOff x="4632840" y="2049480"/>
                <a:chExt cx="4128480" cy="36831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63284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2192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8240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4087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99516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57980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1748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7613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4038480" y="2033640"/>
              <a:ext cx="4746240" cy="3709800"/>
              <a:chOff x="4038480" y="2033640"/>
              <a:chExt cx="4746240" cy="3709800"/>
            </a:xfrm>
          </p:grpSpPr>
          <p:sp>
            <p:nvSpPr>
              <p:cNvPr id="317" name=""/>
              <p:cNvSpPr/>
              <p:nvPr/>
            </p:nvSpPr>
            <p:spPr>
              <a:xfrm>
                <a:off x="404820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38480" y="5726520"/>
                <a:ext cx="474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4376880" y="2639880"/>
            <a:ext cx="3225600" cy="246708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1"/>
                  <a:pt x="537" y="1159"/>
                </a:cubicBezTo>
                <a:cubicBezTo>
                  <a:pt x="723" y="1027"/>
                  <a:pt x="933" y="892"/>
                  <a:pt x="1119" y="764"/>
                </a:cubicBezTo>
                <a:cubicBezTo>
                  <a:pt x="1305" y="636"/>
                  <a:pt x="1504" y="516"/>
                  <a:pt x="1656" y="389"/>
                </a:cubicBezTo>
                <a:cubicBezTo>
                  <a:pt x="1808" y="262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83160" y="2671920"/>
            <a:ext cx="3019320" cy="2286000"/>
          </a:xfrm>
          <a:custGeom>
            <a:avLst/>
            <a:gdLst/>
            <a:ahLst/>
            <a:rect l="l" t="t" r="r" b="b"/>
            <a:pathLst>
              <a:path w="1902" h="1440">
                <a:moveTo>
                  <a:pt x="0" y="1440"/>
                </a:moveTo>
                <a:cubicBezTo>
                  <a:pt x="67" y="1390"/>
                  <a:pt x="290" y="1218"/>
                  <a:pt x="401" y="1139"/>
                </a:cubicBezTo>
                <a:cubicBezTo>
                  <a:pt x="512" y="1060"/>
                  <a:pt x="560" y="1035"/>
                  <a:pt x="666" y="964"/>
                </a:cubicBezTo>
                <a:cubicBezTo>
                  <a:pt x="772" y="893"/>
                  <a:pt x="889" y="813"/>
                  <a:pt x="1035" y="712"/>
                </a:cubicBezTo>
                <a:cubicBezTo>
                  <a:pt x="1181" y="611"/>
                  <a:pt x="1395" y="475"/>
                  <a:pt x="1540" y="356"/>
                </a:cubicBezTo>
                <a:cubicBezTo>
                  <a:pt x="1685" y="237"/>
                  <a:pt x="1827" y="74"/>
                  <a:pt x="190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59760" y="590400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Suppli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326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47440" y="296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549640" y="56865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03480" y="22939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45000" y="9828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Supply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33760" y="2654280"/>
            <a:ext cx="3164040" cy="241452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2"/>
                  <a:pt x="537" y="1159"/>
                </a:cubicBezTo>
                <a:cubicBezTo>
                  <a:pt x="723" y="1026"/>
                  <a:pt x="933" y="886"/>
                  <a:pt x="1119" y="758"/>
                </a:cubicBezTo>
                <a:cubicBezTo>
                  <a:pt x="1305" y="630"/>
                  <a:pt x="1504" y="515"/>
                  <a:pt x="1656" y="389"/>
                </a:cubicBezTo>
                <a:cubicBezTo>
                  <a:pt x="1808" y="263"/>
                  <a:pt x="1920" y="131"/>
                  <a:pt x="2032" y="0"/>
                </a:cubicBezTo>
              </a:path>
            </a:pathLst>
          </a:custGeom>
          <a:noFill/>
          <a:ln w="633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10320" y="2568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76800" y="502272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37200" y="43959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15240" y="31748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40440" y="379404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18080" y="2627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27200" y="2036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46880" y="3090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30840" y="42400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346800" y="31654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81440" y="4282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70480" y="572292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       4          6          8         10        12       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162 L 0.07119 0.03493 E">
                                      <p:cBhvr>
                                        <p:cTn id="645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8545E-006 L -0.05225 -0.04765 E">
                                      <p:cBhvr>
                                        <p:cTn id="659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4038480" y="2033640"/>
            <a:ext cx="4746240" cy="3709800"/>
            <a:chOff x="4038480" y="2033640"/>
            <a:chExt cx="4746240" cy="3709800"/>
          </a:xfrm>
        </p:grpSpPr>
        <p:grpSp>
          <p:nvGrpSpPr>
            <p:cNvPr id="351" name=""/>
            <p:cNvGrpSpPr/>
            <p:nvPr/>
          </p:nvGrpSpPr>
          <p:grpSpPr>
            <a:xfrm>
              <a:off x="4046400" y="2048040"/>
              <a:ext cx="4725360" cy="3684600"/>
              <a:chOff x="4046400" y="2048040"/>
              <a:chExt cx="4725360" cy="36846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4046400" y="2048040"/>
                <a:ext cx="4725360" cy="3060360"/>
                <a:chOff x="4046400" y="2048040"/>
                <a:chExt cx="4725360" cy="3060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063320" y="2048040"/>
                  <a:ext cx="47084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60080" y="26463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056480" y="32619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053240" y="38772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049640" y="44928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046400" y="51084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632840" y="2049480"/>
                <a:ext cx="4128480" cy="3683160"/>
                <a:chOff x="4632840" y="2049480"/>
                <a:chExt cx="4128480" cy="36831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63284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2192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8240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4087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99516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57980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1748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7613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4038480" y="2033640"/>
              <a:ext cx="4746240" cy="3709800"/>
              <a:chOff x="4038480" y="2033640"/>
              <a:chExt cx="4746240" cy="3709800"/>
            </a:xfrm>
          </p:grpSpPr>
          <p:sp>
            <p:nvSpPr>
              <p:cNvPr id="369" name=""/>
              <p:cNvSpPr/>
              <p:nvPr/>
            </p:nvSpPr>
            <p:spPr>
              <a:xfrm>
                <a:off x="404820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38480" y="5726520"/>
                <a:ext cx="474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5024520" y="2878200"/>
            <a:ext cx="3225600" cy="246708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1"/>
                  <a:pt x="537" y="1159"/>
                </a:cubicBezTo>
                <a:cubicBezTo>
                  <a:pt x="723" y="1027"/>
                  <a:pt x="933" y="892"/>
                  <a:pt x="1119" y="764"/>
                </a:cubicBezTo>
                <a:cubicBezTo>
                  <a:pt x="1305" y="636"/>
                  <a:pt x="1504" y="516"/>
                  <a:pt x="1656" y="389"/>
                </a:cubicBezTo>
                <a:cubicBezTo>
                  <a:pt x="1808" y="262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97160" y="2347920"/>
            <a:ext cx="3019680" cy="2286000"/>
          </a:xfrm>
          <a:custGeom>
            <a:avLst/>
            <a:gdLst/>
            <a:ahLst/>
            <a:rect l="l" t="t" r="r" b="b"/>
            <a:pathLst>
              <a:path w="1902" h="1440">
                <a:moveTo>
                  <a:pt x="0" y="1440"/>
                </a:moveTo>
                <a:cubicBezTo>
                  <a:pt x="67" y="1390"/>
                  <a:pt x="290" y="1218"/>
                  <a:pt x="401" y="1139"/>
                </a:cubicBezTo>
                <a:cubicBezTo>
                  <a:pt x="512" y="1060"/>
                  <a:pt x="560" y="1035"/>
                  <a:pt x="666" y="964"/>
                </a:cubicBezTo>
                <a:cubicBezTo>
                  <a:pt x="772" y="893"/>
                  <a:pt x="889" y="813"/>
                  <a:pt x="1035" y="712"/>
                </a:cubicBezTo>
                <a:cubicBezTo>
                  <a:pt x="1181" y="611"/>
                  <a:pt x="1395" y="475"/>
                  <a:pt x="1540" y="356"/>
                </a:cubicBezTo>
                <a:cubicBezTo>
                  <a:pt x="1685" y="237"/>
                  <a:pt x="1827" y="74"/>
                  <a:pt x="190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59760" y="590400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Suppli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378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47440" y="296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49640" y="56865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03480" y="22939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45000" y="9828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Supply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33760" y="2654280"/>
            <a:ext cx="3164040" cy="241452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2"/>
                  <a:pt x="537" y="1159"/>
                </a:cubicBezTo>
                <a:cubicBezTo>
                  <a:pt x="723" y="1026"/>
                  <a:pt x="933" y="886"/>
                  <a:pt x="1119" y="758"/>
                </a:cubicBezTo>
                <a:cubicBezTo>
                  <a:pt x="1305" y="630"/>
                  <a:pt x="1504" y="515"/>
                  <a:pt x="1656" y="389"/>
                </a:cubicBezTo>
                <a:cubicBezTo>
                  <a:pt x="1808" y="263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10320" y="2568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76800" y="502272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37200" y="43959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15240" y="31748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40440" y="379404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18080" y="2627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7200" y="2036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46880" y="3090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30840" y="42400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346800" y="31654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681440" y="4282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29480" y="4718160"/>
            <a:ext cx="28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An Increase in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eans a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13200" y="1682640"/>
            <a:ext cx="283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 Movement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ny Two Points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upply Curve is Called a Change in </a:t>
            </a:r>
            <a:r>
              <a:rPr b="1" i="1" lang="en-US" sz="1800" spc="-1" strike="noStrike" u="sng">
                <a:solidFill>
                  <a:srgbClr val="990033"/>
                </a:solidFill>
                <a:uFillTx/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u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089480" y="3903840"/>
            <a:ext cx="307800" cy="76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441840" y="3728520"/>
            <a:ext cx="944280" cy="92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73720" y="3122640"/>
            <a:ext cx="6778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229000" y="3112920"/>
            <a:ext cx="144360" cy="128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70480" y="572292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       4          6          8         10        12       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Equilibrium Price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Equilibrium Quantity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urplus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ortage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Rationing Function of Prices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200800" y="1068480"/>
            <a:ext cx="618120" cy="729360"/>
            <a:chOff x="8200800" y="1068480"/>
            <a:chExt cx="618120" cy="729360"/>
          </a:xfrm>
        </p:grpSpPr>
        <p:sp>
          <p:nvSpPr>
            <p:cNvPr id="411" name=""/>
            <p:cNvSpPr/>
            <p:nvPr/>
          </p:nvSpPr>
          <p:spPr>
            <a:xfrm>
              <a:off x="8200800" y="14907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3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8265960" y="1068480"/>
              <a:ext cx="43668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indefinite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025960" y="3873600"/>
            <a:ext cx="0" cy="1849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419640" y="2033640"/>
            <a:ext cx="4123440" cy="3709800"/>
            <a:chOff x="3419640" y="2033640"/>
            <a:chExt cx="4123440" cy="3709800"/>
          </a:xfrm>
        </p:grpSpPr>
        <p:grpSp>
          <p:nvGrpSpPr>
            <p:cNvPr id="415" name=""/>
            <p:cNvGrpSpPr/>
            <p:nvPr/>
          </p:nvGrpSpPr>
          <p:grpSpPr>
            <a:xfrm>
              <a:off x="3425040" y="2047320"/>
              <a:ext cx="4118040" cy="3684240"/>
              <a:chOff x="3425040" y="2047320"/>
              <a:chExt cx="4118040" cy="36842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425040" y="2047320"/>
                <a:ext cx="4118040" cy="3060360"/>
                <a:chOff x="3425040" y="2047320"/>
                <a:chExt cx="4118040" cy="30603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439800" y="2047320"/>
                  <a:ext cx="410328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436920" y="264564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34040" y="326124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430800" y="387648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427920" y="449208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425040" y="510768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877200" y="2048400"/>
                <a:ext cx="3652920" cy="3683160"/>
                <a:chOff x="3877200" y="2048400"/>
                <a:chExt cx="3652920" cy="36831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8772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33008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95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477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6995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1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609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5301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614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"/>
            <p:cNvGrpSpPr/>
            <p:nvPr/>
          </p:nvGrpSpPr>
          <p:grpSpPr>
            <a:xfrm>
              <a:off x="3419640" y="2033640"/>
              <a:ext cx="4119840" cy="3709800"/>
              <a:chOff x="3419640" y="2033640"/>
              <a:chExt cx="4119840" cy="3709800"/>
            </a:xfrm>
          </p:grpSpPr>
          <p:sp>
            <p:nvSpPr>
              <p:cNvPr id="434" name=""/>
              <p:cNvSpPr/>
              <p:nvPr/>
            </p:nvSpPr>
            <p:spPr>
              <a:xfrm>
                <a:off x="342828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19640" y="5726520"/>
                <a:ext cx="411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 flipH="1">
            <a:off x="3441240" y="3882960"/>
            <a:ext cx="1592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48240" y="2651040"/>
            <a:ext cx="2516040" cy="2444760"/>
          </a:xfrm>
          <a:custGeom>
            <a:avLst/>
            <a:gdLst/>
            <a:ahLst/>
            <a:rect l="l" t="t" r="r" b="b"/>
            <a:pathLst>
              <a:path w="1585" h="1540">
                <a:moveTo>
                  <a:pt x="0" y="1540"/>
                </a:moveTo>
                <a:cubicBezTo>
                  <a:pt x="143" y="1416"/>
                  <a:pt x="286" y="1292"/>
                  <a:pt x="433" y="1165"/>
                </a:cubicBezTo>
                <a:cubicBezTo>
                  <a:pt x="580" y="1038"/>
                  <a:pt x="737" y="908"/>
                  <a:pt x="880" y="776"/>
                </a:cubicBezTo>
                <a:cubicBezTo>
                  <a:pt x="1023" y="644"/>
                  <a:pt x="1177" y="504"/>
                  <a:pt x="1294" y="375"/>
                </a:cubicBezTo>
                <a:cubicBezTo>
                  <a:pt x="1411" y="246"/>
                  <a:pt x="1498" y="123"/>
                  <a:pt x="1585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941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21840" y="1844640"/>
            <a:ext cx="39384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92160" y="5708520"/>
            <a:ext cx="396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       4       6       8     10    12     14    16    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67960" y="5904000"/>
            <a:ext cx="38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hels of Corn (thousand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21211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0520" y="25671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51240" y="3171960"/>
            <a:ext cx="16524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0000" y="37972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579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85080" y="50212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14920" y="31734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70680" y="256068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75160" y="50212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57720" y="44146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711440" y="2468520"/>
            <a:ext cx="1006200" cy="2732040"/>
            <a:chOff x="1711440" y="2468520"/>
            <a:chExt cx="1006200" cy="2732040"/>
          </a:xfrm>
        </p:grpSpPr>
        <p:sp>
          <p:nvSpPr>
            <p:cNvPr id="454" name=""/>
            <p:cNvSpPr/>
            <p:nvPr/>
          </p:nvSpPr>
          <p:spPr>
            <a:xfrm>
              <a:off x="1711440" y="2768760"/>
              <a:ext cx="100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14360" y="246852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795680" y="2381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86360" y="2381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22240" y="2763720"/>
            <a:ext cx="4064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56040" y="2763720"/>
            <a:ext cx="8010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27200" y="1568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00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674120" y="2468520"/>
            <a:ext cx="1006200" cy="2732040"/>
            <a:chOff x="7674120" y="2468520"/>
            <a:chExt cx="1006200" cy="2732040"/>
          </a:xfrm>
        </p:grpSpPr>
        <p:sp>
          <p:nvSpPr>
            <p:cNvPr id="462" name=""/>
            <p:cNvSpPr/>
            <p:nvPr/>
          </p:nvSpPr>
          <p:spPr>
            <a:xfrm>
              <a:off x="7674120" y="2768760"/>
              <a:ext cx="100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77040" y="246852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758360" y="2381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47960" y="2381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84920" y="2763720"/>
            <a:ext cx="4064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128080" y="2763720"/>
            <a:ext cx="8010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3680" y="1568520"/>
            <a:ext cx="13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00 S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26840" y="911160"/>
            <a:ext cx="55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00 Buyers &amp; 200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81600" y="56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25520" y="3755880"/>
            <a:ext cx="28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69320" y="505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66080" y="2309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3246480"/>
            <a:ext cx="4059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4884840" y="2334960"/>
            <a:ext cx="266760" cy="1374840"/>
          </a:xfrm>
          <a:custGeom>
            <a:avLst/>
            <a:gdLst>
              <a:gd name="textAreaLeft" fmla="*/ 0 w 266760"/>
              <a:gd name="textAreaRight" fmla="*/ 96120 w 266760"/>
              <a:gd name="textAreaTop" fmla="*/ 35640 h 1374840"/>
              <a:gd name="textAreaBottom" fmla="*/ 1339200 h 13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29200" y="29019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$4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234320" y="2266920"/>
            <a:ext cx="157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,000 Bus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ur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41600" y="4494240"/>
            <a:ext cx="4059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19480" y="41688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$2 Price 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 rot="5400000">
            <a:off x="5011560" y="3835800"/>
            <a:ext cx="266760" cy="1590480"/>
          </a:xfrm>
          <a:custGeom>
            <a:avLst/>
            <a:gdLst>
              <a:gd name="textAreaLeft" fmla="*/ 0 w 266760"/>
              <a:gd name="textAreaRight" fmla="*/ 96120 w 26676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8160" y="4829040"/>
            <a:ext cx="157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7,000 Bus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h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Changes in Demand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Changes in Supply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Changes in Equilibrium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Efficient Allocation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roductive Efficienc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Allocative Efficienc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1695240" y="1066320"/>
            <a:ext cx="5554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Increase; Demand De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Decrease; Demand In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Increase; Demand In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Decrease; Demand De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17840" y="8571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702200" y="85716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88120" y="1440000"/>
            <a:ext cx="463680" cy="596880"/>
          </a:xfrm>
          <a:prstGeom prst="downArrow">
            <a:avLst>
              <a:gd name="adj1" fmla="val 50000"/>
              <a:gd name="adj2" fmla="val 32182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033400" y="13255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188120" y="2982960"/>
            <a:ext cx="463680" cy="596880"/>
          </a:xfrm>
          <a:prstGeom prst="downArrow">
            <a:avLst>
              <a:gd name="adj1" fmla="val 50000"/>
              <a:gd name="adj2" fmla="val 32182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033400" y="286848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42760" y="4249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142760" y="561168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077320" y="4363920"/>
            <a:ext cx="463320" cy="596880"/>
          </a:xfrm>
          <a:prstGeom prst="downArrow">
            <a:avLst>
              <a:gd name="adj1" fmla="val 50000"/>
              <a:gd name="adj2" fmla="val 32207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77320" y="5726160"/>
            <a:ext cx="463320" cy="596880"/>
          </a:xfrm>
          <a:prstGeom prst="downArrow">
            <a:avLst>
              <a:gd name="adj1" fmla="val 50000"/>
              <a:gd name="adj2" fmla="val 32207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indefinite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indefinite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indefinite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overnment-Set Pr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04960" y="990720"/>
            <a:ext cx="704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Price Ceilings on Gasoline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Rationing Problem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Black Markets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Rent Controls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Price Floors on Wheat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Optimal Allocation of Resources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8200800" y="5640480"/>
            <a:ext cx="618120" cy="729360"/>
            <a:chOff x="8200800" y="5640480"/>
            <a:chExt cx="618120" cy="729360"/>
          </a:xfrm>
        </p:grpSpPr>
        <p:sp>
          <p:nvSpPr>
            <p:cNvPr id="499" name=""/>
            <p:cNvSpPr/>
            <p:nvPr/>
          </p:nvSpPr>
          <p:spPr>
            <a:xfrm>
              <a:off x="8200800" y="60627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3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8265960" y="5640480"/>
              <a:ext cx="43668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71560" y="131760"/>
            <a:ext cx="71992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Legal Market for Human Orga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52480" y="1771200"/>
            <a:ext cx="70135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Waiting List for Transplant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Demand for Organ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Vertical Supply of Organ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Incentive Role of Market and Up-Sloping Supply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Increases Quantity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Decreases Price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Moral Objections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Increase the Cost of Health Care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Better to Legalize and Regulate?</a:t>
            </a:r>
            <a:endParaRPr b="1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20204400">
            <a:off x="1810800" y="734760"/>
            <a:ext cx="1325880" cy="9856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435640" y="3648240"/>
            <a:ext cx="0" cy="2454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917800" y="3666960"/>
            <a:ext cx="2517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71560" y="131760"/>
            <a:ext cx="71992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Legal Market for Human Orga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20204400">
            <a:off x="1810800" y="734760"/>
            <a:ext cx="1325880" cy="9856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00560" y="158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74960" y="6099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30560" y="1633680"/>
            <a:ext cx="3092400" cy="44892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941640" y="1612440"/>
            <a:ext cx="2743200" cy="451980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49760" y="1612800"/>
            <a:ext cx="0" cy="45100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81440" y="1566720"/>
            <a:ext cx="5579640" cy="4582800"/>
            <a:chOff x="2881440" y="1566720"/>
            <a:chExt cx="5579640" cy="4582800"/>
          </a:xfrm>
        </p:grpSpPr>
        <p:sp>
          <p:nvSpPr>
            <p:cNvPr id="514" name=""/>
            <p:cNvSpPr/>
            <p:nvPr/>
          </p:nvSpPr>
          <p:spPr>
            <a:xfrm>
              <a:off x="2892960" y="1566720"/>
              <a:ext cx="0" cy="458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81440" y="6128640"/>
              <a:ext cx="55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715440" y="14716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31120" y="13572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6080" y="5694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70680" y="34164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470680" y="594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22240" y="61088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03440" y="61088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46200" y="61088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62560" y="3576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621480" y="184644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y of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66240" y="222732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Demand for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28200" y="2598840"/>
            <a:ext cx="2895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Shortage at Zero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– Q</a:t>
            </a:r>
            <a:r>
              <a:rPr b="1" i="1" lang="en-US" sz="20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878080" y="3083040"/>
            <a:ext cx="1025640" cy="246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5599080" y="4638600"/>
            <a:ext cx="514080" cy="2431800"/>
          </a:xfrm>
          <a:custGeom>
            <a:avLst/>
            <a:gdLst>
              <a:gd name="textAreaLeft" fmla="*/ 0 w 514080"/>
              <a:gd name="textAreaRight" fmla="*/ 185760 w 514080"/>
              <a:gd name="textAreaTop" fmla="*/ 63360 h 2431800"/>
              <a:gd name="textAreaBottom" fmla="*/ 2368440 h 24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02160" y="1246320"/>
            <a:ext cx="35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Supply With Price Incen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92080" y="4091040"/>
            <a:ext cx="2712240" cy="10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 Price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ortage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99000" y="4838760"/>
            <a:ext cx="1396800" cy="12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 rot="5400000">
            <a:off x="6116400" y="5438520"/>
            <a:ext cx="277920" cy="1623960"/>
          </a:xfrm>
          <a:custGeom>
            <a:avLst/>
            <a:gdLst>
              <a:gd name="textAreaLeft" fmla="*/ 0 w 277920"/>
              <a:gd name="textAreaRight" fmla="*/ 100440 w 277920"/>
              <a:gd name="textAreaTop" fmla="*/ 42120 h 1623960"/>
              <a:gd name="textAreaBottom" fmla="*/ 15818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66800" y="942480"/>
            <a:ext cx="7220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38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Demand Defined and What Affects It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38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Supply Defined and What Affects It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38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How Supply &amp; Demand Together Determine Market Equilibrium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38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How Changes in Supply and Demand Affect Equilibrium Prices and Quantities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38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Government-Set Prices and their Implications for Surpluses &amp; Shortages</a:t>
            </a:r>
            <a:endParaRPr b="1" lang="en-US" sz="3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725480" y="781200"/>
            <a:ext cx="7108920" cy="5784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b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52120" y="381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776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deman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demand schedule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law of deman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diminishing marginal utility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income effect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substitution effect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demand curve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determinants of deman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normal goods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inferior goods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substitute goo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complementary goo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change in deman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change in quantity demande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71920" y="990720"/>
            <a:ext cx="3579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supply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supply schedule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law of supply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supply curve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determinants of supply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change in supply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change in quantity supplied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equilibrium price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equilibrium quantity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surplus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shortage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price ceiling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price floor</a:t>
            </a:r>
            <a:endParaRPr b="1" lang="en-US" sz="21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42760" y="9144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emand Defined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emand Schedul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Law of Demand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05600" indent="-271440">
              <a:lnSpc>
                <a:spcPct val="105000"/>
              </a:lnSpc>
              <a:spcBef>
                <a:spcPts val="675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iminishing Marginal Utilit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05600" indent="-271440">
              <a:lnSpc>
                <a:spcPct val="105000"/>
              </a:lnSpc>
              <a:spcBef>
                <a:spcPts val="675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come Effec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05600" indent="-271440">
              <a:lnSpc>
                <a:spcPct val="105000"/>
              </a:lnSpc>
              <a:spcBef>
                <a:spcPts val="675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ubstitution Effec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Demand Curve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ket Demand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254800" y="1084320"/>
            <a:ext cx="618120" cy="694440"/>
            <a:chOff x="8254800" y="1084320"/>
            <a:chExt cx="618120" cy="694440"/>
          </a:xfrm>
        </p:grpSpPr>
        <p:pic>
          <p:nvPicPr>
            <p:cNvPr id="6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305920" y="108432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>
              <a:hlinkClick r:id="rId3"/>
            </p:cNvPr>
            <p:cNvSpPr/>
            <p:nvPr/>
          </p:nvSpPr>
          <p:spPr>
            <a:xfrm>
              <a:off x="8254800" y="14716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3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8254800" y="2455920"/>
            <a:ext cx="618120" cy="694440"/>
            <a:chOff x="8254800" y="2455920"/>
            <a:chExt cx="618120" cy="694440"/>
          </a:xfrm>
        </p:grpSpPr>
        <p:pic>
          <p:nvPicPr>
            <p:cNvPr id="69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305920" y="2455920"/>
              <a:ext cx="463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>
              <a:hlinkClick r:id="rId6"/>
            </p:cNvPr>
            <p:cNvSpPr/>
            <p:nvPr/>
          </p:nvSpPr>
          <p:spPr>
            <a:xfrm>
              <a:off x="8254800" y="28432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3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254800" y="3713040"/>
            <a:ext cx="618120" cy="694440"/>
            <a:chOff x="8254800" y="3713040"/>
            <a:chExt cx="618120" cy="694440"/>
          </a:xfrm>
        </p:grpSpPr>
        <p:pic>
          <p:nvPicPr>
            <p:cNvPr id="72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8305920" y="3713040"/>
              <a:ext cx="4633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>
              <a:hlinkClick r:id="rId9"/>
            </p:cNvPr>
            <p:cNvSpPr/>
            <p:nvPr/>
          </p:nvSpPr>
          <p:spPr>
            <a:xfrm>
              <a:off x="8254800" y="410040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254800" y="4522680"/>
            <a:ext cx="618120" cy="694440"/>
            <a:chOff x="8254800" y="4522680"/>
            <a:chExt cx="618120" cy="694440"/>
          </a:xfrm>
        </p:grpSpPr>
        <p:pic>
          <p:nvPicPr>
            <p:cNvPr id="7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8305920" y="4522680"/>
              <a:ext cx="4633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>
              <a:hlinkClick r:id="rId12"/>
            </p:cNvPr>
            <p:cNvSpPr/>
            <p:nvPr/>
          </p:nvSpPr>
          <p:spPr>
            <a:xfrm>
              <a:off x="8254800" y="49100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3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81080" y="38703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3941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898880"/>
            <a:ext cx="1171800" cy="40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1332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36564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8480" y="2033640"/>
            <a:ext cx="4123800" cy="3709800"/>
            <a:chOff x="4038480" y="2033640"/>
            <a:chExt cx="4123800" cy="3709800"/>
          </a:xfrm>
        </p:grpSpPr>
        <p:grpSp>
          <p:nvGrpSpPr>
            <p:cNvPr id="84" name=""/>
            <p:cNvGrpSpPr/>
            <p:nvPr/>
          </p:nvGrpSpPr>
          <p:grpSpPr>
            <a:xfrm>
              <a:off x="4043880" y="2047320"/>
              <a:ext cx="4118400" cy="3684240"/>
              <a:chOff x="4043880" y="2047320"/>
              <a:chExt cx="4118400" cy="36842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4043880" y="2047320"/>
                <a:ext cx="4118400" cy="3060360"/>
                <a:chOff x="4043880" y="2047320"/>
                <a:chExt cx="4118400" cy="30603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058640" y="204732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055760" y="26456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052880" y="32612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049640" y="38764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046760" y="44920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043880" y="51076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6040" y="2048400"/>
                <a:ext cx="3653280" cy="3683160"/>
                <a:chOff x="4496040" y="2048400"/>
                <a:chExt cx="3653280" cy="3683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604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948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147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8665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3183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701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2288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149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0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4038480" y="2033640"/>
              <a:ext cx="4120200" cy="3709800"/>
              <a:chOff x="4038480" y="2033640"/>
              <a:chExt cx="4120200" cy="3709800"/>
            </a:xfrm>
          </p:grpSpPr>
          <p:sp>
            <p:nvSpPr>
              <p:cNvPr id="103" name=""/>
              <p:cNvSpPr/>
              <p:nvPr/>
            </p:nvSpPr>
            <p:spPr>
              <a:xfrm>
                <a:off x="404712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8480" y="5726520"/>
                <a:ext cx="412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517920" y="1827360"/>
            <a:ext cx="4641120" cy="4413960"/>
            <a:chOff x="3517920" y="1827360"/>
            <a:chExt cx="4641120" cy="4413960"/>
          </a:xfrm>
        </p:grpSpPr>
        <p:sp>
          <p:nvSpPr>
            <p:cNvPr id="106" name=""/>
            <p:cNvSpPr/>
            <p:nvPr/>
          </p:nvSpPr>
          <p:spPr>
            <a:xfrm>
              <a:off x="3678480" y="1827360"/>
              <a:ext cx="38016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18200" y="5722920"/>
              <a:ext cx="367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    20     30     40     50     60     70     80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88240" y="5904000"/>
              <a:ext cx="397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Demanded (bushels per wee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2740320" y="3534480"/>
              <a:ext cx="189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(per bushe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133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112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48520" y="29624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5574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61080" y="31622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78560" y="378792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94560" y="502128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20880" y="5638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88160" y="5054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444320"/>
            <a:ext cx="7086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ast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umber of Buyer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com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ormal Good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ferior Good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ce of Related Good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bstitute Good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mplementary Good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nrelated Good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onsumer Expectation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6360" y="82224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Determinants of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indefinite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2033640"/>
            <a:ext cx="4123800" cy="3709800"/>
            <a:chOff x="4038480" y="2033640"/>
            <a:chExt cx="4123800" cy="3709800"/>
          </a:xfrm>
        </p:grpSpPr>
        <p:grpSp>
          <p:nvGrpSpPr>
            <p:cNvPr id="132" name=""/>
            <p:cNvGrpSpPr/>
            <p:nvPr/>
          </p:nvGrpSpPr>
          <p:grpSpPr>
            <a:xfrm>
              <a:off x="4043880" y="2047320"/>
              <a:ext cx="4118400" cy="3684240"/>
              <a:chOff x="4043880" y="2047320"/>
              <a:chExt cx="4118400" cy="36842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043880" y="2047320"/>
                <a:ext cx="4118400" cy="3060360"/>
                <a:chOff x="4043880" y="2047320"/>
                <a:chExt cx="4118400" cy="30603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058640" y="204732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055760" y="26456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052880" y="32612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049640" y="38764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046760" y="44920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043880" y="51076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496040" y="2048400"/>
                <a:ext cx="3653280" cy="3683160"/>
                <a:chOff x="4496040" y="2048400"/>
                <a:chExt cx="3653280" cy="3683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49604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48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147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8665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183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7701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2288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149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80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" name=""/>
            <p:cNvGrpSpPr/>
            <p:nvPr/>
          </p:nvGrpSpPr>
          <p:grpSpPr>
            <a:xfrm>
              <a:off x="4038480" y="2033640"/>
              <a:ext cx="4120200" cy="3709800"/>
              <a:chOff x="4038480" y="2033640"/>
              <a:chExt cx="4120200" cy="3709800"/>
            </a:xfrm>
          </p:grpSpPr>
          <p:sp>
            <p:nvSpPr>
              <p:cNvPr id="151" name=""/>
              <p:cNvSpPr/>
              <p:nvPr/>
            </p:nvSpPr>
            <p:spPr>
              <a:xfrm>
                <a:off x="404712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38480" y="5726520"/>
                <a:ext cx="412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88240" y="590400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Demand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133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158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520" y="29624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3320" y="263052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11520" y="2630520"/>
            <a:ext cx="31766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5574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1622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78560" y="378792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4560" y="502128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83120" y="2928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29240" y="408780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041800" y="3544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92320" y="4641840"/>
            <a:ext cx="21564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20880" y="5638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94280" y="5054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11360" y="5708520"/>
            <a:ext cx="396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       4       6       8     10    12     14    16    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45360" y="98280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Demand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17240" y="294624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Increase i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0911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crease i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22880" y="4492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0320" y="5264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3921E-007 L 0.04878 -0.03285 E">
                                      <p:cBhvr>
                                        <p:cTn id="3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3921E-007 L -0.04202 0.04372 E">
                                      <p:cBhvr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2033640"/>
            <a:ext cx="4123800" cy="3709800"/>
            <a:chOff x="4038480" y="2033640"/>
            <a:chExt cx="4123800" cy="3709800"/>
          </a:xfrm>
        </p:grpSpPr>
        <p:grpSp>
          <p:nvGrpSpPr>
            <p:cNvPr id="187" name=""/>
            <p:cNvGrpSpPr/>
            <p:nvPr/>
          </p:nvGrpSpPr>
          <p:grpSpPr>
            <a:xfrm>
              <a:off x="4043880" y="2047320"/>
              <a:ext cx="4118400" cy="3684240"/>
              <a:chOff x="4043880" y="2047320"/>
              <a:chExt cx="4118400" cy="36842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043880" y="2047320"/>
                <a:ext cx="4118400" cy="3060360"/>
                <a:chOff x="4043880" y="2047320"/>
                <a:chExt cx="4118400" cy="30603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058640" y="204732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055760" y="26456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052880" y="32612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049640" y="38764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046760" y="44920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43880" y="51076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496040" y="2048400"/>
                <a:ext cx="3653280" cy="3683160"/>
                <a:chOff x="4496040" y="2048400"/>
                <a:chExt cx="3653280" cy="3683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49604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48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147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8665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3183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7701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2288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149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80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" name=""/>
            <p:cNvGrpSpPr/>
            <p:nvPr/>
          </p:nvGrpSpPr>
          <p:grpSpPr>
            <a:xfrm>
              <a:off x="4038480" y="2033640"/>
              <a:ext cx="4120200" cy="3709800"/>
              <a:chOff x="4038480" y="2033640"/>
              <a:chExt cx="4120200" cy="3709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04712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38480" y="5726520"/>
                <a:ext cx="412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88240" y="590400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Demand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213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48520" y="29624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22720" y="292572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0000" y="2401920"/>
            <a:ext cx="317628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574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1080" y="31622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78560" y="378792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4560" y="502128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83120" y="2928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29240" y="408780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041800" y="3544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92320" y="4641840"/>
            <a:ext cx="21564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20880" y="5638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94280" y="5054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11360" y="5708520"/>
            <a:ext cx="396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       4       6       8     10    12     14    16    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45360" y="98280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Demand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35320" y="50911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crease i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2880" y="4492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70320" y="5264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04640" y="1460520"/>
            <a:ext cx="299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An Increase 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eans a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37360" y="2502000"/>
            <a:ext cx="27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 Movement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ny Two Points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mand Curve is Called a Change in </a:t>
            </a:r>
            <a:r>
              <a:rPr b="1" i="1" lang="en-US" sz="1800" spc="-1" strike="noStrike" u="sng">
                <a:solidFill>
                  <a:srgbClr val="990033"/>
                </a:solidFill>
                <a:uFillTx/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ma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667400" y="2386080"/>
            <a:ext cx="1071360" cy="45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229360" y="2400480"/>
            <a:ext cx="503280" cy="38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033880" y="3236760"/>
            <a:ext cx="1473120" cy="20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29400" y="3436920"/>
            <a:ext cx="77760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42760" y="9144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5000"/>
              </a:lnSpc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Defined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05000"/>
              </a:lnSpc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Schedul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05000"/>
              </a:lnSpc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Law of Suppl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Revenue Implication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Marginal Cos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05000"/>
              </a:lnSpc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Curv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105000"/>
              </a:lnSpc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Market Supply 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81080" y="38703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43941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4898880"/>
            <a:ext cx="1171800" cy="40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41332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336564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038480" y="2033640"/>
            <a:ext cx="4746240" cy="3709800"/>
            <a:chOff x="4038480" y="2033640"/>
            <a:chExt cx="4746240" cy="3709800"/>
          </a:xfrm>
        </p:grpSpPr>
        <p:grpSp>
          <p:nvGrpSpPr>
            <p:cNvPr id="253" name=""/>
            <p:cNvGrpSpPr/>
            <p:nvPr/>
          </p:nvGrpSpPr>
          <p:grpSpPr>
            <a:xfrm>
              <a:off x="4046400" y="2048040"/>
              <a:ext cx="4725360" cy="3684600"/>
              <a:chOff x="4046400" y="2048040"/>
              <a:chExt cx="4725360" cy="36846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046400" y="2048040"/>
                <a:ext cx="4725360" cy="3060360"/>
                <a:chOff x="4046400" y="2048040"/>
                <a:chExt cx="4725360" cy="30603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063320" y="2048040"/>
                  <a:ext cx="47084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060080" y="26463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56480" y="32619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053240" y="38772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049640" y="44928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046400" y="51084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632840" y="2049480"/>
                <a:ext cx="4128480" cy="3683160"/>
                <a:chOff x="4632840" y="2049480"/>
                <a:chExt cx="4128480" cy="36831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63284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2192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240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087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9516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57980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1748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613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4038480" y="2033640"/>
              <a:ext cx="4746240" cy="3709800"/>
              <a:chOff x="4038480" y="2033640"/>
              <a:chExt cx="4746240" cy="3709800"/>
            </a:xfrm>
          </p:grpSpPr>
          <p:sp>
            <p:nvSpPr>
              <p:cNvPr id="271" name=""/>
              <p:cNvSpPr/>
              <p:nvPr/>
            </p:nvSpPr>
            <p:spPr>
              <a:xfrm>
                <a:off x="404820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38480" y="5726520"/>
                <a:ext cx="474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67160" y="2639880"/>
            <a:ext cx="3225960" cy="246708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1"/>
                  <a:pt x="537" y="1159"/>
                </a:cubicBezTo>
                <a:cubicBezTo>
                  <a:pt x="723" y="1027"/>
                  <a:pt x="933" y="892"/>
                  <a:pt x="1119" y="764"/>
                </a:cubicBezTo>
                <a:cubicBezTo>
                  <a:pt x="1305" y="636"/>
                  <a:pt x="1504" y="516"/>
                  <a:pt x="1656" y="389"/>
                </a:cubicBezTo>
                <a:cubicBezTo>
                  <a:pt x="1808" y="262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59760" y="590400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Suppli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279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47440" y="296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10320" y="2568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6160" y="502272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37200" y="43959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40440" y="379404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15240" y="31748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549640" y="56865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03480" y="22939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17920" y="5722920"/>
            <a:ext cx="39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       20        30        40        50        60        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Tasawar</cp:lastModifiedBy>
  <dcterms:modified xsi:type="dcterms:W3CDTF">2008-11-22T04:50:37Z</dcterms:modified>
  <cp:revision>152</cp:revision>
  <dc:subject>McConnell-Brue Economics</dc:subject>
  <dc:title>Chapter 3</dc:title>
</cp:coreProperties>
</file>